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AB7-9215-4C3F-9646-90E1B6BF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450-2755-438A-9751-02C22821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8E2-6EBE-42CD-8310-0F629D86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76F-F45E-4831-828D-3EFAF273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AE7-8E62-46DE-9330-D241B9DE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2C4-2FED-409C-AD95-365967A4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19B-D5AA-4E2B-A396-B4AF85F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047-C36B-4EE8-9EAC-1D324000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0F9-9149-452A-9A78-5D49075B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32C-FAC9-42BD-BE34-B3F77354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1C2-38B9-41B0-BF53-531CBF1E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523-6428-4154-97CA-677E1D8A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2FD4-B034-4050-87CE-2F3CBF20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1A94-0476-4100-BBAE-E96C9B0C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B418-08CE-4AC2-8269-0C749CA0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0376-B40F-4459-B45D-46F3C2D8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6C9F-9DB9-45A7-9A07-B884E2E7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9A93-AE37-4D92-AD58-7211B1D5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9CF7-A11D-433E-8ED7-B8FD5CA3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C2C0-50D4-4962-BCFE-F0B82C1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C987-9045-4A5A-A5FE-3F3A1DE7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E97E-79F1-4A5F-9736-B1FB4C66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1B27-489B-4B80-963F-86B762BF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83B4-F2B8-4E5E-BFF7-B14B7761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65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0120" y="249120"/>
            <a:ext cx="795024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0040" y="4147920"/>
            <a:ext cx="63309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13480" indent="0" algn="ctr">
              <a:lnSpc>
                <a:spcPts val="3835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4680" y="3276720"/>
            <a:ext cx="9137520" cy="152280"/>
            <a:chOff x="4680" y="3276720"/>
            <a:chExt cx="9137520" cy="152280"/>
          </a:xfrm>
        </p:grpSpPr>
        <p:sp>
          <p:nvSpPr>
            <p:cNvPr id="5" name="Freeform 6"/>
            <p:cNvSpPr/>
            <p:nvPr/>
          </p:nvSpPr>
          <p:spPr>
            <a:xfrm>
              <a:off x="4680" y="3276720"/>
              <a:ext cx="9137520" cy="7452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680" y="3390840"/>
              <a:ext cx="9137520" cy="3816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88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3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809E-159B-4E3C-ADFC-EFC8D88F9E99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DBA5-6E7D-445F-8588-F1AA82FA4500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44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87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30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73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16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59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02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45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8912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Solving Quadratic Equation</a:t>
            </a:r>
            <a:br>
              <a:rPr sz="4500"/>
            </a:b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 by Graphing</a:t>
            </a:r>
            <a:endParaRPr b="0" lang="en-US" sz="45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3309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ts val="5998"/>
              </a:lnSpc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402000"/>
                </a:solidFill>
                <a:latin typeface="Book Antiqua"/>
              </a:rPr>
              <a:t>Section 6.1</a:t>
            </a:r>
            <a:endParaRPr b="0" lang="en-US" sz="47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106668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 of a quadratic equation is a parabola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roots or zeros are the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vertex is the maximum or minimum point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All parabolas have an axis of symmetry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One method of graphing uses a table with arbitrar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x-valu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Graph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4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   0 and 4 ,   Vertex  (2, -4) ,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x = 2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1155600" y="3606840"/>
            <a:ext cx="1270080" cy="1815840"/>
            <a:chOff x="1155600" y="3606840"/>
            <a:chExt cx="1270080" cy="1815840"/>
          </a:xfrm>
        </p:grpSpPr>
        <p:sp>
          <p:nvSpPr>
            <p:cNvPr id="574" name="Rectangle 4"/>
            <p:cNvSpPr/>
            <p:nvPr/>
          </p:nvSpPr>
          <p:spPr>
            <a:xfrm>
              <a:off x="115560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179064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115560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179064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115560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179064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"/>
            <p:cNvSpPr/>
            <p:nvPr/>
          </p:nvSpPr>
          <p:spPr>
            <a:xfrm>
              <a:off x="115560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179064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2"/>
            <p:cNvSpPr/>
            <p:nvPr/>
          </p:nvSpPr>
          <p:spPr>
            <a:xfrm>
              <a:off x="115560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>
              <a:off x="179064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115560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>
              <a:off x="179064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6"/>
            <p:cNvSpPr/>
            <p:nvPr/>
          </p:nvSpPr>
          <p:spPr>
            <a:xfrm>
              <a:off x="115560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179064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8"/>
            <p:cNvSpPr/>
            <p:nvPr/>
          </p:nvSpPr>
          <p:spPr>
            <a:xfrm>
              <a:off x="242568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9"/>
            <p:cNvSpPr/>
            <p:nvPr/>
          </p:nvSpPr>
          <p:spPr>
            <a:xfrm>
              <a:off x="1155600" y="36068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0"/>
            <p:cNvSpPr/>
            <p:nvPr/>
          </p:nvSpPr>
          <p:spPr>
            <a:xfrm>
              <a:off x="1155600" y="39114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1"/>
            <p:cNvSpPr/>
            <p:nvPr/>
          </p:nvSpPr>
          <p:spPr>
            <a:xfrm>
              <a:off x="1155600" y="42163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2"/>
            <p:cNvSpPr/>
            <p:nvPr/>
          </p:nvSpPr>
          <p:spPr>
            <a:xfrm>
              <a:off x="1155600" y="45212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3"/>
            <p:cNvSpPr/>
            <p:nvPr/>
          </p:nvSpPr>
          <p:spPr>
            <a:xfrm>
              <a:off x="1155600" y="48258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4"/>
            <p:cNvSpPr/>
            <p:nvPr/>
          </p:nvSpPr>
          <p:spPr>
            <a:xfrm>
              <a:off x="1155600" y="51307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5"/>
            <p:cNvSpPr/>
            <p:nvPr/>
          </p:nvSpPr>
          <p:spPr>
            <a:xfrm>
              <a:off x="1155600" y="542268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Picture 27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1370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Try this problem 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2x - 8.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Verte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1143000" y="2336760"/>
            <a:ext cx="1270080" cy="1815840"/>
            <a:chOff x="1143000" y="2336760"/>
            <a:chExt cx="1270080" cy="1815840"/>
          </a:xfrm>
        </p:grpSpPr>
        <p:sp>
          <p:nvSpPr>
            <p:cNvPr id="600" name="Rectangle 4"/>
            <p:cNvSpPr/>
            <p:nvPr/>
          </p:nvSpPr>
          <p:spPr>
            <a:xfrm>
              <a:off x="114300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5"/>
            <p:cNvSpPr/>
            <p:nvPr/>
          </p:nvSpPr>
          <p:spPr>
            <a:xfrm>
              <a:off x="177804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"/>
            <p:cNvSpPr/>
            <p:nvPr/>
          </p:nvSpPr>
          <p:spPr>
            <a:xfrm>
              <a:off x="114300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7"/>
            <p:cNvSpPr/>
            <p:nvPr/>
          </p:nvSpPr>
          <p:spPr>
            <a:xfrm>
              <a:off x="177804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8"/>
            <p:cNvSpPr/>
            <p:nvPr/>
          </p:nvSpPr>
          <p:spPr>
            <a:xfrm>
              <a:off x="114300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9"/>
            <p:cNvSpPr/>
            <p:nvPr/>
          </p:nvSpPr>
          <p:spPr>
            <a:xfrm>
              <a:off x="177804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10"/>
            <p:cNvSpPr/>
            <p:nvPr/>
          </p:nvSpPr>
          <p:spPr>
            <a:xfrm>
              <a:off x="114300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1"/>
            <p:cNvSpPr/>
            <p:nvPr/>
          </p:nvSpPr>
          <p:spPr>
            <a:xfrm>
              <a:off x="177804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2"/>
            <p:cNvSpPr/>
            <p:nvPr/>
          </p:nvSpPr>
          <p:spPr>
            <a:xfrm>
              <a:off x="114300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3"/>
            <p:cNvSpPr/>
            <p:nvPr/>
          </p:nvSpPr>
          <p:spPr>
            <a:xfrm>
              <a:off x="177804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4"/>
            <p:cNvSpPr/>
            <p:nvPr/>
          </p:nvSpPr>
          <p:spPr>
            <a:xfrm>
              <a:off x="114300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5"/>
            <p:cNvSpPr/>
            <p:nvPr/>
          </p:nvSpPr>
          <p:spPr>
            <a:xfrm>
              <a:off x="177804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16"/>
            <p:cNvSpPr/>
            <p:nvPr/>
          </p:nvSpPr>
          <p:spPr>
            <a:xfrm>
              <a:off x="114300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7"/>
            <p:cNvSpPr/>
            <p:nvPr/>
          </p:nvSpPr>
          <p:spPr>
            <a:xfrm>
              <a:off x="177804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8"/>
            <p:cNvSpPr/>
            <p:nvPr/>
          </p:nvSpPr>
          <p:spPr>
            <a:xfrm>
              <a:off x="241308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9"/>
            <p:cNvSpPr/>
            <p:nvPr/>
          </p:nvSpPr>
          <p:spPr>
            <a:xfrm>
              <a:off x="1143000" y="23367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0"/>
            <p:cNvSpPr/>
            <p:nvPr/>
          </p:nvSpPr>
          <p:spPr>
            <a:xfrm>
              <a:off x="1143000" y="26413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1143000" y="29462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22"/>
            <p:cNvSpPr/>
            <p:nvPr/>
          </p:nvSpPr>
          <p:spPr>
            <a:xfrm>
              <a:off x="1143000" y="32511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>
              <a:off x="1143000" y="35557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>
              <a:off x="1143000" y="38606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>
              <a:off x="1143000" y="415260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7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136680" cy="3429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9" descr=""/>
          <p:cNvPicPr/>
          <p:nvPr/>
        </p:nvPicPr>
        <p:blipFill>
          <a:blip r:embed="rId2"/>
          <a:stretch/>
        </p:blipFill>
        <p:spPr>
          <a:xfrm flipH="1" rot="10800000">
            <a:off x="4800600" y="6858000"/>
            <a:ext cx="323856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512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ing calculator is also a helpful tool for graphing quadratic equation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Refer to classwork1 for directions for graphing quadratic equations on the Casio.</a:t>
            </a:r>
            <a:r>
              <a:rPr b="1" lang="en-US" sz="1200" spc="-1" strike="noStrike">
                <a:solidFill>
                  <a:srgbClr val="402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111744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0265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Quadratic Equation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12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y = ax</a:t>
            </a:r>
            <a:r>
              <a:rPr b="1" lang="en-US" sz="5100" spc="-1" strike="noStrike" baseline="15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+ bx + c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a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is the quadratic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bx is the linear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c is the constant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The highest exponent is two; therefore, the degree is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778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=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7x+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5x</a:t>
            </a:r>
            <a:r>
              <a:rPr b="1" lang="en-US" sz="3400" spc="-1" strike="noStrike" baseline="30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-7x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6334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720" y="17521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 0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-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555480" y="479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2x +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990360" y="0"/>
            <a:ext cx="755964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6707160" y="3962520"/>
            <a:ext cx="58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89624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number of real solutions is at most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Quadratic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860400" y="44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860400" y="44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5410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143000" y="5486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762120" y="38098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40608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53352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250920" y="639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127160" y="402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14320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822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9907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-304920" y="3048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3908520" y="296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3794040" y="257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4038480" y="3124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844236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341316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8"/>
          <p:cNvSpPr/>
          <p:nvPr/>
        </p:nvSpPr>
        <p:spPr>
          <a:xfrm>
            <a:off x="1851120" y="22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12034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32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1830600" cy="198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3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2057400" cy="2014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4" descr=""/>
          <p:cNvPicPr/>
          <p:nvPr/>
        </p:nvPicPr>
        <p:blipFill>
          <a:blip r:embed="rId3"/>
          <a:stretch/>
        </p:blipFill>
        <p:spPr>
          <a:xfrm>
            <a:off x="5867280" y="3124080"/>
            <a:ext cx="2286000" cy="19702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6"/>
          <p:cNvSpPr/>
          <p:nvPr/>
        </p:nvSpPr>
        <p:spPr>
          <a:xfrm>
            <a:off x="33368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7"/>
          <p:cNvSpPr/>
          <p:nvPr/>
        </p:nvSpPr>
        <p:spPr>
          <a:xfrm>
            <a:off x="3429000" y="5410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60800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586728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02656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Solving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499"/>
              </a:lnSpc>
              <a:spcAft>
                <a:spcPts val="1400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When we talk about solving these equations, we want to find the value of  x when y = 0.  These values, where the graph crosses the x-axis, are called the  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se values are also referred to as solutions, zeros, or roo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- 4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5829480" y="1676520"/>
            <a:ext cx="3314520" cy="3390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1219320" y="5029200"/>
            <a:ext cx="5486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Book Antiqua"/>
              </a:rPr>
              <a:t>Solutions are -2 and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2x -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Solutions are   0 and 2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090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6:32:40Z</dcterms:created>
  <dc:creator>HCPS</dc:creator>
  <dc:description/>
  <cp:keywords>OPA</cp:keywords>
  <dc:language>en-US</dc:language>
  <cp:lastModifiedBy>MHIS</cp:lastModifiedBy>
  <dcterms:modified xsi:type="dcterms:W3CDTF">2013-04-11T17:17:53Z</dcterms:modified>
  <cp:revision>5</cp:revision>
  <dc:subject/>
  <dc:title>Solving Quadratic Equation  by Graphing</dc:title>
</cp:coreProperties>
</file>